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23A3-99C8-438F-86C4-DF95BD696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transduction  - transmitting a signal from outside the cell to the cell nucleus, like receiving a hormone which triggers a receptor on the inside of the cell that then signals to the nucleus that a protein must be m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114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human blood groups (A, B, AB, and O) differ in the external carbohydrates on red blood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rbohydrates are not inserted into the membrane -- they are too hydrophilic for that. They are attached to embedded proteins -- glycoprote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rbohydrates are not inserted into the membrane -- they are too hydrophilic for that. They are attached to embedded proteins -- glycoprote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62EE-7FC7-4543-8DDC-4BB42F9DF1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79B9-C4E5-428A-9048-75B5E7C9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7389E-DDC8-4662-9491-0084B5A8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9747-7A6B-4C8C-A790-90F7B90FC7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CEB9-BF42-4AD0-86B8-BD4742F8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7ACF2-B0B4-4EC9-BEF6-C3E76139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4D510-61B5-44EA-BC86-C338829A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A4B5-3ABE-4D53-97DF-67A48799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FD8D-D210-49F5-9B5A-83B0C285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0D74E-4677-42DB-B3F2-49119325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3B626-96BD-4065-9EA5-6349441B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778B-757F-4690-8A5A-53568354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B9D9-289C-44B9-81E2-4CE14229C637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4-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3-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28600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 8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Cell Membrane 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3500" t="0" r="27000" b="13187"/>
          <a:stretch/>
        </p:blipFill>
        <p:spPr>
          <a:xfrm>
            <a:off x="6477120" y="457200"/>
            <a:ext cx="26668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ntegral Protei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3543480"/>
            <a:ext cx="3886200" cy="3238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ithin membra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ydrophobic regions with nonpolar amino ac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ten coiled into alpha helic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uter surfaces of membra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ydrophilic regions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ith polar amino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c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nside &amp; outside surfaces are differen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308560" y="1752480"/>
            <a:ext cx="3835440" cy="4876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layers may differ in lipid composi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teins in membrane have a direc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uter surface also has carbohydrat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Membranes provide a variety of cell functions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3991"/>
          <a:stretch/>
        </p:blipFill>
        <p:spPr>
          <a:xfrm>
            <a:off x="1143000" y="1523880"/>
            <a:ext cx="70866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luid membran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ermeabilit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mbrane must be fluid, about as fluid as salad oi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hanging temperature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ells alter lipid composition of membran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ld-adapted organism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inter wheat increases % unsaturated phospholipids in autum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revent membranes from solidifying during wint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Unsaturated fat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re fluid membrane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kinks in unsaturated fatty acid tails prevent tight packing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48844" r="51838" b="9361"/>
          <a:stretch/>
        </p:blipFill>
        <p:spPr>
          <a:xfrm>
            <a:off x="2438280" y="3389400"/>
            <a:ext cx="43419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mbrane carbohydrat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lay a key role in cell-cell recogni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bility of a cell to distinguish neighboring cells from anoth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mportant in organ &amp; tissue developm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asis for rejection of foreign cells by immune system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 membrane is a collage of different proteins embedded in the fluid matrix of the lipid bilayer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1263" r="0" b="4675"/>
          <a:stretch/>
        </p:blipFill>
        <p:spPr>
          <a:xfrm>
            <a:off x="838080" y="1708200"/>
            <a:ext cx="75596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lasma membrane separates living cell from nonliving surrounding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in barrier = 8nm thick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ntrols traffic into &amp; out of the cel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selectively permeabl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ing some substances to cross more easily than other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ade of phospholipids, proteins &amp; other macromolecul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atty acid tails are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hydrophobic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osphate  group form a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hydrophilic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hea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teraction with 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 is complex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&amp;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very important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!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32674" b="8999"/>
          <a:stretch/>
        </p:blipFill>
        <p:spPr>
          <a:xfrm>
            <a:off x="4495680" y="1600200"/>
            <a:ext cx="459900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 in wat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t surface of a cell phospholipids are arranged as a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bilay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hydrophilic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heads on the outside in contact with aqueous solution &amp;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hydrophobic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tails form cor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hospholipid bilayer forms a barrier between cell &amp; external environment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29604" t="49203" r="1060" b="7200"/>
          <a:stretch/>
        </p:blipFill>
        <p:spPr>
          <a:xfrm>
            <a:off x="2666880" y="4267080"/>
            <a:ext cx="42354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luid Mosaic Model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45845" t="0" r="0" b="13564"/>
          <a:stretch/>
        </p:blipFill>
        <p:spPr>
          <a:xfrm>
            <a:off x="2440080" y="2962440"/>
            <a:ext cx="4578120" cy="3438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n 1972, S.J. Singer &amp; G. Nicolson proposed that membrane proteins are inserted into the phospholipid bilay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 membrane is a collage of different proteins embedded in the fluid matrix of the lipid bilayer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1263" r="0" b="4675"/>
          <a:stretch/>
        </p:blipFill>
        <p:spPr>
          <a:xfrm>
            <a:off x="838080" y="1708200"/>
            <a:ext cx="75596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mbrane Protei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roteins determine most of membrane’s specific function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lasma membrane &amp; organelle membranes each have unique collections of protein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Membrane proteins: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peripheral protei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= loosely bound to surface of membran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integral protei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= penetrate into lipid bilayer, often completely spanning the membrane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(a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transmembran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protein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3120" y="3543480"/>
            <a:ext cx="3886200" cy="32382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8288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are proteins the perfect molecule to function embedded in the cell membran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0" t="0" r="0" b="4515"/>
          <a:stretch/>
        </p:blipFill>
        <p:spPr>
          <a:xfrm>
            <a:off x="1676520" y="3211560"/>
            <a:ext cx="6400800" cy="3646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0" t="0" r="0" b="5487"/>
          <a:stretch/>
        </p:blipFill>
        <p:spPr>
          <a:xfrm>
            <a:off x="1600200" y="316080"/>
            <a:ext cx="653256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20:13:53Z</dcterms:created>
  <dc:creator>Kim B. Foglia</dc:creator>
  <dc:description>All Rights Reserved. Copyright 2003. WD Interactive.</dc:description>
  <cp:keywords>WD Interactive Web Development</cp:keywords>
  <dc:language>en-US</dc:language>
  <cp:lastModifiedBy>Kim Foglia</cp:lastModifiedBy>
  <cp:lastPrinted>2004-10-04T04:26:44Z</cp:lastPrinted>
  <dcterms:modified xsi:type="dcterms:W3CDTF">2004-10-05T01:36:21Z</dcterms:modified>
  <cp:revision>378</cp:revision>
  <dc:subject>Introduction to the Internet &amp; Web sites</dc:subject>
  <dc:title>Small Business Success on the Web</dc:title>
</cp:coreProperties>
</file>